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AD54-344D-4039-94D2-FC3F05380D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FA3C-7085-4773-BC10-2DCEA1E5F9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B67-6BB5-459A-B061-82A4D1B4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6486-2771-4B42-B447-DB64E46E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86A-F169-4622-BB68-9D6504AC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CFBD-CAF1-488B-84CA-4699D0D1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E253-1A60-42E0-9142-CCF064C2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2ED0-FA00-4E86-B121-C842DB66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5D49-141D-4C23-9642-449296DE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FA3-D2E8-41EE-953D-1AD0C027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6ABF-8C96-4869-AE60-7F3F1E8D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5EEF-2404-40ED-9137-19563E7C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FD89-A51A-4B67-BD76-8A0BEB8A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31E8-C732-4CB7-9CEB-5B3D9FB1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6286-56C0-4BBF-92E3-05B6A257C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432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Arial"/>
              </a:rPr>
              <a:t>Мастер-класс учителя математики МОУ-сош №3 Л.Н.Родыги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Arial"/>
              </a:rPr>
              <a:t>2011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Title 3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950760" y="298440"/>
            <a:ext cx="77598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4"/>
          <p:cNvSpPr/>
          <p:nvPr/>
        </p:nvSpPr>
        <p:spPr>
          <a:xfrm flipV="1">
            <a:off x="1905120" y="3200400"/>
            <a:ext cx="144756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3352680" y="3200400"/>
            <a:ext cx="44197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1905120" y="4876560"/>
            <a:ext cx="5867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124080" y="33526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2286000" y="4495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6002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467480" y="4800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3505320" y="2514600"/>
            <a:ext cx="1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6324480" y="43434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2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 это метод обучения, при котором ребёнок не получает знания в готовом виде, а добывает их сам в процессе собственной учебно-познавательной деятельности.</a:t>
            </a:r>
            <a:endParaRPr b="0" i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457200" y="3809880"/>
            <a:ext cx="3276720" cy="2590920"/>
            <a:chOff x="457200" y="3809880"/>
            <a:chExt cx="3276720" cy="2590920"/>
          </a:xfrm>
        </p:grpSpPr>
        <p:sp>
          <p:nvSpPr>
            <p:cNvPr id="53" name="Rectangle 6"/>
            <p:cNvSpPr/>
            <p:nvPr/>
          </p:nvSpPr>
          <p:spPr>
            <a:xfrm>
              <a:off x="457200" y="3809880"/>
              <a:ext cx="3276720" cy="259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7" descr="сканирование0015"/>
            <p:cNvPicPr/>
            <p:nvPr/>
          </p:nvPicPr>
          <p:blipFill>
            <a:blip r:embed="rId3"/>
            <a:stretch/>
          </p:blipFill>
          <p:spPr>
            <a:xfrm>
              <a:off x="520200" y="3980160"/>
              <a:ext cx="3150360" cy="218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8"/>
          <p:cNvGrpSpPr/>
          <p:nvPr/>
        </p:nvGrpSpPr>
        <p:grpSpPr>
          <a:xfrm>
            <a:off x="5410080" y="3809880"/>
            <a:ext cx="3284640" cy="2562120"/>
            <a:chOff x="5410080" y="3809880"/>
            <a:chExt cx="3284640" cy="2562120"/>
          </a:xfrm>
        </p:grpSpPr>
        <p:sp>
          <p:nvSpPr>
            <p:cNvPr id="56" name="Rectangle 9"/>
            <p:cNvSpPr/>
            <p:nvPr/>
          </p:nvSpPr>
          <p:spPr>
            <a:xfrm>
              <a:off x="5410080" y="3809880"/>
              <a:ext cx="3284640" cy="25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10" descr="сканирование0016"/>
            <p:cNvPicPr/>
            <p:nvPr/>
          </p:nvPicPr>
          <p:blipFill>
            <a:blip r:embed="rId4"/>
            <a:stretch/>
          </p:blipFill>
          <p:spPr>
            <a:xfrm>
              <a:off x="5547960" y="3900240"/>
              <a:ext cx="3111840" cy="2410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ectangle 2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450720" y="146160"/>
            <a:ext cx="8242560" cy="1280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: «Сумма углов треугольни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внобедре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ямоугольный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вносторон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упоугольный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Равнобедренный треугольник 3"/>
          <p:cNvSpPr/>
          <p:nvPr/>
        </p:nvSpPr>
        <p:spPr>
          <a:xfrm>
            <a:off x="5791320" y="4724280"/>
            <a:ext cx="1218960" cy="12193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ый треугольник 4"/>
          <p:cNvSpPr/>
          <p:nvPr/>
        </p:nvSpPr>
        <p:spPr>
          <a:xfrm>
            <a:off x="5715000" y="1600200"/>
            <a:ext cx="1143000" cy="83808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Равнобедренный треугольник 5"/>
          <p:cNvSpPr/>
          <p:nvPr/>
        </p:nvSpPr>
        <p:spPr>
          <a:xfrm>
            <a:off x="7010280" y="2362320"/>
            <a:ext cx="685800" cy="1447560"/>
          </a:xfrm>
          <a:prstGeom prst="triangle">
            <a:avLst>
              <a:gd name="adj" fmla="val 48269"/>
            </a:avLst>
          </a:prstGeom>
          <a:solidFill>
            <a:srgbClr val="4f81b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4648320" y="3124080"/>
            <a:ext cx="761760" cy="990720"/>
          </a:xfrm>
          <a:prstGeom prst="line">
            <a:avLst/>
          </a:prstGeom>
          <a:ln w="76320">
            <a:solidFill>
              <a:srgbClr val="0a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0"/>
          <p:cNvSpPr/>
          <p:nvPr/>
        </p:nvSpPr>
        <p:spPr>
          <a:xfrm>
            <a:off x="5410080" y="4114800"/>
            <a:ext cx="1219320" cy="0"/>
          </a:xfrm>
          <a:prstGeom prst="line">
            <a:avLst/>
          </a:prstGeom>
          <a:ln w="76320">
            <a:solidFill>
              <a:srgbClr val="0a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2"/>
          <p:cNvSpPr/>
          <p:nvPr/>
        </p:nvSpPr>
        <p:spPr>
          <a:xfrm>
            <a:off x="4648320" y="3124080"/>
            <a:ext cx="1981080" cy="990720"/>
          </a:xfrm>
          <a:prstGeom prst="line">
            <a:avLst/>
          </a:prstGeom>
          <a:ln w="76320">
            <a:solidFill>
              <a:srgbClr val="0a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5410080" y="1828800"/>
            <a:ext cx="1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Rectangle 2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1365120" y="298440"/>
            <a:ext cx="7255080" cy="11588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371600" y="1600200"/>
            <a:ext cx="723888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В = 6с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С = 7с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С = 4с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4495680" y="2438280"/>
            <a:ext cx="3353040" cy="365760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6248520" y="1981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7924680" y="556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886200" y="55627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Rectangle 2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умма углов любого треугольника равна 180 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Сумма острых углов прямоугольного треугольника равна 9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В равнобедренном треугольнике углы при основании рав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В равностороннем треугольнике все углы равны 6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Rectangle 2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2438280" y="2286000"/>
            <a:ext cx="5334120" cy="2971800"/>
          </a:xfrm>
          <a:prstGeom prst="rtTriangl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2438280" y="4876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2819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7772400" y="4724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828800" y="4724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905120" y="2133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2438280" y="2590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6553080" y="4648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530280" y="225360"/>
            <a:ext cx="8242200" cy="1152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3276720" y="1752480"/>
            <a:ext cx="3124080" cy="388620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3886200" y="3505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H="1">
            <a:off x="5486040" y="3429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2590920" y="51055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6477120" y="5181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4268880" y="1600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58128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57200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1905120" y="2971800"/>
            <a:ext cx="6248160" cy="137160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335268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 flipH="1">
            <a:off x="624852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572000" y="3124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676520" y="44197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4800600" y="2286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7772400" y="4343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971800" y="3809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6781680" y="3809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6:59:44Z</dcterms:created>
  <dc:creator>Корпорация Майкрософт</dc:creator>
  <dc:description>Корпорация Майкрософт</dc:description>
  <cp:keywords>Корпорация Майкрософт</cp:keywords>
  <dc:language>en-US</dc:language>
  <cp:lastModifiedBy>олег</cp:lastModifiedBy>
  <dcterms:modified xsi:type="dcterms:W3CDTF">2011-06-12T13:32:50Z</dcterms:modified>
  <cp:revision>8</cp:revision>
  <dc:subject/>
  <dc:title>Шаблон оформл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31811049</vt:lpwstr>
  </property>
</Properties>
</file>