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40F-5A56-4E91-976B-D49EC93A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8DD-1035-43D5-8472-16585394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EDE-B276-41EB-BBB2-2AD285C1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A66-D2E5-44AE-84A6-06929739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AE67-4DA6-4373-B5BC-2CDEEC0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88B3-1DBD-4612-966B-28A1F1DC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3381-E838-4A63-88AA-F70F41A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6DAA-B371-495B-8869-5D20CB1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6026-B5BB-456F-8742-14D63F37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DF9B-85CE-48EA-B0D5-EE066DBF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2E7F-99DA-48AF-85DB-E28B1392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C69-C8D6-44E8-8F86-6590F3A1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BBC7-3D60-4D18-BA32-D637C4B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535-436B-443A-9140-753E7F5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2182-3D55-4B62-BEB8-80BD04C6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6F7-40ED-4D60-B062-1052E50C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458C-1CC3-43CD-8B21-3F104803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57FF-3DD6-4D98-92FC-F71C81AE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B757-931D-43C3-BB43-21DD5C7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4EF7-1F48-4229-BF46-0AAEA23D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BC47-7D0F-4F3D-981F-55E00453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03A4-032D-413A-9487-6FEB81C5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B0E-D283-4E4E-AF38-8764A71F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C0C6-2262-4AC0-8C36-B5E53BDF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9AD1-0B38-4AB0-97F0-1BF397D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83CB-D777-4694-B088-04FDCB7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E30A-AF80-4F8C-95CB-28D09BF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2D7F-0D5F-4AC4-BEBD-69F92E1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C5E8-F9A8-4406-A076-20D9C0D0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0781-5067-43E5-8CB8-DF303A7C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ECF7-7EC3-40A1-BF80-0C71B7DD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B94F-49AC-4814-80DB-444503D2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1C97B-4199-4536-80CB-F4D5FB0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D05-1F26-4CD4-9D24-8E6FB4D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4F93-1E3A-4D15-B7B9-FA31B476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F422-7F8C-4354-AABB-61D63DD3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D8AE-1EB7-44E2-9D30-8CF9342B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938D-95F3-4EA3-B977-413D2EB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CB49-85E3-4C72-930C-87986C8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7C540-F82A-4395-99BA-A27DAC4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AFFD-BE15-4CA4-8DCB-55DFAB3E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D7B4-8D02-493E-A82E-DD086EA0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8CCD-A8AA-4D32-A775-51807962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A3B8-6810-41D8-B819-BC39B4A2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186-FA4A-40BD-BFE2-7131998E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46BCF-10F5-4F47-A0DC-D959134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4ECB-5F69-4DF9-A26F-C62B1EF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7353-3F0F-45C1-8BBE-7CFD600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2609-4C97-419F-B47C-AB6F74AC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D851C-9524-4A49-A265-0C48180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9B95-40C0-48B0-BD4D-001C68E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A7D2-ABF8-4BE2-BD62-7311F7F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D7CC-BE71-4D8B-A964-29337B0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2577-7E71-4CCD-AAF5-B97218B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05D17-009F-4BFC-A212-5B440CC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51B-A3F6-41F5-8ADA-F52CC2F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9B7F-B49A-4CB0-BAC8-19F37916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3C7-4CB0-409D-A72F-967DCB1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D39-455A-453B-9FDE-A0522A5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BCB-8321-4B34-9BF6-1DEC1BFE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D66D-B7AD-4F31-9302-55F4E6BF474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BFB2-C185-4F75-9DF1-6E7766C081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6AC8-4422-4044-B69B-41FA27DE71A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F9D-D0BE-4FF4-81DC-911EC55C238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BB5-5805-4650-ACB9-B6AEBD27717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роект на тему: «Топология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00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Выполнил: ученик 9-А кла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Зайцев Ники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Руководитель: учитель математи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1 категории Родыги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Людмила Николаев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Arial"/>
              </a:rPr>
              <a:t>2011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84360" y="476280"/>
            <a:ext cx="799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3 г.Красный К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яс Мёбиус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разрезать вдоль средней линии пояс Мёбиуса, то будет одно кольцо, но в два раза длиннее (полученное кольцо имеет двустороннюю поверхность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5" descr="Картинка 48 из 1555"/>
          <p:cNvPicPr/>
          <p:nvPr/>
        </p:nvPicPr>
        <p:blipFill>
          <a:blip r:embed="rId1"/>
          <a:stretch/>
        </p:blipFill>
        <p:spPr>
          <a:xfrm>
            <a:off x="539640" y="32130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C:\Users\8 А КЛАСС\Desktop\P1020728.JPG"/>
          <p:cNvPicPr/>
          <p:nvPr/>
        </p:nvPicPr>
        <p:blipFill>
          <a:blip r:embed="rId2"/>
          <a:stretch/>
        </p:blipFill>
        <p:spPr>
          <a:xfrm>
            <a:off x="4548240" y="321480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28760" y="128556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разрезать пояс Мёбиуса по линии, лежащей недалеко от края, то   получается два сцепленных кольца: одно большое и узкое, а другое маленькое  и широк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2411280" y="765000"/>
            <a:ext cx="47307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ояс Мёб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17"/>
          <p:cNvPicPr/>
          <p:nvPr/>
        </p:nvPicPr>
        <p:blipFill>
          <a:blip r:embed="rId1"/>
          <a:stretch/>
        </p:blipFill>
        <p:spPr>
          <a:xfrm>
            <a:off x="5357880" y="3429000"/>
            <a:ext cx="3063960" cy="2435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Users\8 А КЛАСС\Desktop\P1020724.JPG"/>
          <p:cNvPicPr/>
          <p:nvPr/>
        </p:nvPicPr>
        <p:blipFill>
          <a:blip r:embed="rId2"/>
          <a:stretch/>
        </p:blipFill>
        <p:spPr>
          <a:xfrm>
            <a:off x="785880" y="342900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итератур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Большая советская энциклопедия» том №26, «Топология», Москва, из-во «Советская энциклопедия», 1977 год, Постников 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Задачи и размышления», Москва, из-во «Мир», 1974 год, Штейнгауз Г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 Математика без формул», Москва, из-во «Знание», 1978 год, Пухначёв Ю. и Поп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ервые понятия топологии», Москва, из-во «Мир», 1967 год, Ю.Стинрод И. и Чинн 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то такое топология?», «Наука и жизнь» №8, Москва, 1970 год, Делоне Б. и Ефремович 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 работы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знать что изучает наука топология и какими свойствами обладает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ли будущее тополог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чи проект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значение слова тополог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ть некоторые из свойств топологии, через доказательство теор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емонстрировать  некоторые из свойств топологии с помощью листа Мёбиу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топология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ТОПОЛОГИ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это часть геометрии, посвящённая изучению феномена, непрерыв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ология стала отдельной областью математики примерно 90 лет назад, но само её развитие, приходится на последние 70 л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е сведения по топологии можно найти в работах Карла Вейерштрасса в 60-е годы прошлого ве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836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 многие ветви геометрии развивались в  последнее время так быстро и плодотворно, как топология; редко случается, чтобы незаметный в начале отдел какой – нибудь науки приобрёл такое основное значение для большого ряда совершенно различных областей знания, как топологи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Д. Гильбер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опологические свойств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5280" y="169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математике имеются свойства, которые не нарушаются ни при каких непрерывных деформациях фигу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ологию называют резиновой геометрие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1258920" y="407664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2556000" y="4221000"/>
            <a:ext cx="504720" cy="50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4140360" y="4581360"/>
            <a:ext cx="100800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300720" y="537372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7164360" y="5373720"/>
            <a:ext cx="258840" cy="28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6588000" y="5445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6588000" y="5589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1403280" y="4149720"/>
            <a:ext cx="115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3059280" y="4508640"/>
            <a:ext cx="1081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5148360" y="4869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яс Мёбиус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125000"/>
            <a:ext cx="8183520" cy="475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 Мёбиуса – это такая « река», у которой один берег служит продолжением друг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468360" y="1125360"/>
            <a:ext cx="81835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Август Мёбиус"/>
          <p:cNvPicPr/>
          <p:nvPr/>
        </p:nvPicPr>
        <p:blipFill>
          <a:blip r:embed="rId1"/>
          <a:stretch/>
        </p:blipFill>
        <p:spPr>
          <a:xfrm>
            <a:off x="826920" y="2730600"/>
            <a:ext cx="3457800" cy="2909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Дом\Desktop\картинки к проекту\Möbius_strip.jpg"/>
          <p:cNvPicPr/>
          <p:nvPr/>
        </p:nvPicPr>
        <p:blipFill>
          <a:blip r:embed="rId2"/>
          <a:stretch/>
        </p:blipFill>
        <p:spPr>
          <a:xfrm>
            <a:off x="5148360" y="2711520"/>
            <a:ext cx="33843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яс Мёбиус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ьмем полоску бумаги и склеим её концы, предварительно перекрутив 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10" descr="6"/>
          <p:cNvPicPr/>
          <p:nvPr/>
        </p:nvPicPr>
        <p:blipFill>
          <a:blip r:embed="rId1"/>
          <a:stretch/>
        </p:blipFill>
        <p:spPr>
          <a:xfrm>
            <a:off x="2268360" y="2492280"/>
            <a:ext cx="5040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яс Мёбиус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епрерывной  покраске обе стороны (вернее одна) будут одинаково покраше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двигаться по краю пояса Мёбиуса, то через полный оборот мы окажемся на другом краю пояса и придем с противоположной сторо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1222514570Lenta_mebiusa"/>
          <p:cNvPicPr/>
          <p:nvPr/>
        </p:nvPicPr>
        <p:blipFill>
          <a:blip r:embed="rId1"/>
          <a:stretch/>
        </p:blipFill>
        <p:spPr>
          <a:xfrm>
            <a:off x="6156360" y="4335480"/>
            <a:ext cx="2592360" cy="2182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C:\Users\8 А КЛАСС\Desktop\P1020722.JPG"/>
          <p:cNvPicPr/>
          <p:nvPr/>
        </p:nvPicPr>
        <p:blipFill>
          <a:blip r:embed="rId2"/>
          <a:stretch/>
        </p:blipFill>
        <p:spPr>
          <a:xfrm>
            <a:off x="1000080" y="4643280"/>
            <a:ext cx="278604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5:12:34Z</dcterms:created>
  <dc:creator>Дом</dc:creator>
  <dc:description/>
  <dc:language>en-US</dc:language>
  <cp:lastModifiedBy>8 А КЛАСС</cp:lastModifiedBy>
  <dcterms:modified xsi:type="dcterms:W3CDTF">2011-05-04T10:40:59Z</dcterms:modified>
  <cp:revision>19</cp:revision>
  <dc:subject/>
  <dc:title>Презентация на тему: «Топология»</dc:title>
</cp:coreProperties>
</file>