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6.png" ContentType="image/png"/>
  <Override PartName="/ppt/media/image7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2.gif" ContentType="image/gi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30EC-A904-4FFE-93FE-BFBE34B91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5C1C-6A3D-49DA-998D-3CC43B1A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ED0D-BCD6-4F81-A8B6-FFE3D0099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948A-C5D2-4429-996A-10406FF42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EBEF-F329-4275-8038-92A357656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CE41-5153-49CD-9DB2-A97705A7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8EDA-BEBA-4845-9115-BDEF74F9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2C95-237A-4BC5-89F8-F1D693AF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C0A7-7EEF-49B9-80C6-A93A5736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3FF2-D043-4902-880B-F7704039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1CEA-E8D5-4A0B-8DB6-6CA28D63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9426-B274-4985-B43A-EEA7B1DC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C40F-2B8C-470B-A9E1-1C4383DE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B788-8C0B-489B-996B-855D891C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F36C-B0B4-4409-ADEF-5C4ABE77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3ED8-822A-40AE-A22D-6CD1DEE2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55C2-210C-4A87-9091-B5374989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43B0-4E2D-43FF-87F5-E5D4E8DA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BFCE-7E2C-40D3-834F-6B48B82B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63E8-0172-4941-ADFC-E284C63A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50FE-DF29-46B4-A9FD-A05059D4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6383-79A8-49F1-966B-E6757ABE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BF25-C3ED-4858-9037-A190BAF0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8038-C441-4B48-9DAB-29285D04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0001-7AC7-41E0-BFF9-961C9F3FD3C9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6784-462A-469F-91DA-FC4E157ACF6D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9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93220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176"/>
                </a:solidFill>
                <a:latin typeface="Times New Roman"/>
              </a:rPr>
              <a:t>Игра «Математический детектив»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295280" y="4572000"/>
            <a:ext cx="7467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Выполнил: учитель математики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                         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МОУ-сош №3 г.Красный Кут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Родыгина Людмила Николаевна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2011г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Кубик Рубик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Преподаватель архитектуры из Будапешта Эрне Рубик придумал эту игру для развития пространственного воображения студентов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505320" cy="350532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380880" y="5335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Циркуль 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Существует легенда о греческом изобретателе Дедале и его племяннике, очень талантливом юноше, который придумал гончарный круг, первую в мире пилу и циркуль. Дядя столкнул его с высокого горного вала из-за зависти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4800600" y="2514600"/>
            <a:ext cx="3852720" cy="302436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527040" y="457200"/>
            <a:ext cx="995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Часы 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94920" y="1066320"/>
            <a:ext cx="695484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Times New Roman"/>
              </a:rPr>
              <a:t>Самые первые часы на земле были -солнечные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3048120" cy="22953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3124080" y="2057400"/>
            <a:ext cx="2971800" cy="22384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4"/>
          <a:stretch/>
        </p:blipFill>
        <p:spPr>
          <a:xfrm>
            <a:off x="5791320" y="4343400"/>
            <a:ext cx="312408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6. Конкурс «Очная ставка»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С помощью пантомимо изобразить то, что досталось по жребию. Если болельщики и жюри правильно отгадывают, то команда получает </a:t>
            </a:r>
            <a:r>
              <a:rPr b="0" i="1" lang="ru-RU" sz="2800" spc="-1" strike="noStrike">
                <a:solidFill>
                  <a:srgbClr val="8383ad"/>
                </a:solidFill>
                <a:latin typeface="Times New Roman"/>
              </a:rPr>
              <a:t>1 балл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СЛОВО ЖЮРИ.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295280" y="2971800"/>
            <a:ext cx="69580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99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ВНИМАНИЕ!!!</a:t>
            </a:r>
            <a:endParaRPr b="0" lang="en-US" sz="1800" spc="1" strike="noStrike">
              <a:ln w="12600">
                <a:solidFill>
                  <a:srgbClr val="cc99ff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Что такое детектив?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ДЕТЕКТИВ(англ. </a:t>
            </a:r>
            <a:r>
              <a:rPr b="0" lang="en-US" sz="2800" spc="-1" strike="noStrike">
                <a:solidFill>
                  <a:srgbClr val="8383ad"/>
                </a:solidFill>
                <a:latin typeface="Times New Roman"/>
              </a:rPr>
              <a:t>Detective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 - раскрытие) –специалист по расследованию преступлений; агент сыскной полиции, сыщик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ДЕТЕКТИВНАЯ ЛИТЕРАТУРА – проза о расследовании и «разгадке» преступления. Родоначальник детективной литературы – американский писатель Эдгар По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176"/>
                </a:solidFill>
                <a:latin typeface="Times New Roman"/>
              </a:rPr>
              <a:t>1. Приветствие.</a:t>
            </a:r>
            <a:endParaRPr b="0" lang="en-US" sz="4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383ad"/>
                </a:solidFill>
                <a:latin typeface="Times New Roman"/>
              </a:rPr>
              <a:t>2. Конкурс «Минута славы».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8383ad"/>
                </a:solidFill>
                <a:latin typeface="Times New Roman"/>
              </a:rPr>
              <a:t>За 1 минуту назвать больше правильных ответов на вопросы. Правильный ответ – 1балл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rcRect l="6643" t="2322" r="3147" b="5604"/>
          <a:stretch/>
        </p:blipFill>
        <p:spPr>
          <a:xfrm>
            <a:off x="6477120" y="3429000"/>
            <a:ext cx="2108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176"/>
                </a:solidFill>
                <a:latin typeface="Times New Roman"/>
              </a:rPr>
              <a:t>3. Конкурс «Опознание личности».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Эйлер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Ферма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Виет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Бернулли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Вейерштрасс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Гаусс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Декарт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Паскаль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Мёбиус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16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Леонард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Пьер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Арнольд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Якоб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Карл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Иоганн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Рене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Блез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Август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Поль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Жерар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Конкурс «Фоторобот» </a:t>
            </a:r>
            <a:br>
              <a:rPr sz="4400"/>
            </a:b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для болельщиков.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Составить математический портрет члена банды «Бесподобие», используя как можно больше математических знаков и символов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5105520" y="2209680"/>
            <a:ext cx="373356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Великие математики: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Леонард Эйлер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Пьер Ферма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Франсуа Виет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Якоб Бернулли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Карл Вейершрасс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Иоганн Гаусс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Рене Декарт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Блез Паскаль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Август Мёбиус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0"/>
          <a:stretch/>
        </p:blipFill>
        <p:spPr>
          <a:xfrm>
            <a:off x="7086600" y="1523880"/>
            <a:ext cx="1536840" cy="221004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6935400" y="388548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Якоб Бернулли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1"/>
          <a:stretch/>
        </p:blipFill>
        <p:spPr>
          <a:xfrm>
            <a:off x="4495680" y="1523880"/>
            <a:ext cx="1695600" cy="22860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419720" y="3886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Леонард Эйлер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2"/>
          <a:stretch/>
        </p:blipFill>
        <p:spPr>
          <a:xfrm>
            <a:off x="5562720" y="4267080"/>
            <a:ext cx="1765080" cy="20574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5638680" y="63244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Франсуа Виет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547560"/>
            <a:ext cx="70866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176"/>
                </a:solidFill>
                <a:latin typeface="Times New Roman"/>
              </a:rPr>
              <a:t>4. Конкурс капитанов </a:t>
            </a:r>
            <a:br>
              <a:rPr sz="4000"/>
            </a:br>
            <a:r>
              <a:rPr b="0" lang="en-US" sz="4000" spc="-1" strike="noStrike">
                <a:solidFill>
                  <a:srgbClr val="404176"/>
                </a:solidFill>
                <a:latin typeface="Times New Roman"/>
              </a:rPr>
              <a:t>   «Детектор лжи»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Times New Roman"/>
              </a:rPr>
              <a:t>Выдаются листы с задачами. Необходимо сопоставить условие с действительностью и сделать правильный вывод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Times New Roman"/>
              </a:rPr>
              <a:t>На решение задач – 1 минута. Порядок чтение задач произвольный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176"/>
                </a:solidFill>
                <a:latin typeface="Times New Roman"/>
              </a:rPr>
              <a:t>5. Конкурс «Следственный  </a:t>
            </a:r>
            <a:br>
              <a:rPr sz="4000"/>
            </a:br>
            <a:r>
              <a:rPr b="0" lang="en-US" sz="4000" spc="-1" strike="noStrike">
                <a:solidFill>
                  <a:srgbClr val="404176"/>
                </a:solidFill>
                <a:latin typeface="Times New Roman"/>
              </a:rPr>
              <a:t>    эксперимент».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Times New Roman"/>
              </a:rPr>
              <a:t>Надо угадать, что лежит в «Чёрном ящике». При ответе после первой подсказки – </a:t>
            </a:r>
            <a:r>
              <a:rPr b="0" i="1" lang="en-US" sz="2800" spc="-1" strike="noStrike">
                <a:solidFill>
                  <a:srgbClr val="8383ad"/>
                </a:solidFill>
                <a:latin typeface="Times New Roman"/>
              </a:rPr>
              <a:t>5 баллов</a:t>
            </a:r>
            <a:r>
              <a:rPr b="0" lang="en-US" sz="2800" spc="-1" strike="noStrike">
                <a:solidFill>
                  <a:srgbClr val="8383ad"/>
                </a:solidFill>
                <a:latin typeface="Times New Roman"/>
              </a:rPr>
              <a:t>, после каждой следующей подсказки снимается</a:t>
            </a:r>
            <a:r>
              <a:rPr b="0" i="1" lang="en-US" sz="2800" spc="-1" strike="noStrike">
                <a:solidFill>
                  <a:srgbClr val="8383ad"/>
                </a:solidFill>
                <a:latin typeface="Times New Roman"/>
              </a:rPr>
              <a:t> 1 балл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396252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Шахматы 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8383ad"/>
                </a:solidFill>
                <a:latin typeface="Times New Roman"/>
              </a:rPr>
              <a:t>это символ мудрости и справедливости. Так считали ещё в древности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2374920" y="2981160"/>
            <a:ext cx="455940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3:54:52Z</dcterms:created>
  <dc:creator>User</dc:creator>
  <dc:description/>
  <dc:language>en-US</dc:language>
  <cp:lastModifiedBy>олег</cp:lastModifiedBy>
  <dcterms:modified xsi:type="dcterms:W3CDTF">2011-06-12T13:22:05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