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596-06F4-41E4-8CC2-046DEDF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13D-17FE-437B-9237-14BE229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95A-57A4-44B0-9FFF-BB50A303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9D6-0640-42BC-9E27-AAEA8AF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D45-B68A-4548-BCCE-FE1CC7B4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8CA2-A331-438C-A7B1-6EB2CE5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050-3137-46FA-8DDE-B342E7B8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18F4-17C5-4A80-9DE6-06EB0F17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D2F-1AD2-4F01-94DA-119E9E2A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663F-D04B-49F7-8131-4D42E3B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562B-55FD-4B2C-989D-0D6E96A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640-6BE7-47C9-A0DA-D73F7AA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28E-6E49-4BE6-9000-B1C5006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44DB-F58A-47C1-B408-EA1A618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73DD-156A-42FF-A2A1-A9F1A80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17E-F09E-4F81-ABC2-4386CA1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296A-69BA-4798-9D40-F73883F1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77D-F96E-460F-A340-98F9B61F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E04-B7E9-4EED-A492-D1F80891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9CA-AA58-49CE-971E-EE0D710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8FB-048B-43FD-83A5-3E1806D1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895-11DB-40B5-AA73-3EE14C4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229-038C-40A2-A380-509F95FA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496-A520-4616-9F5B-F1BAC892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874-FEB7-4722-B732-6A01465B2F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D7F8-F76D-422A-9A80-97C731768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Биржа знаний</a:t>
            </a: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неклассное мероприятие для учащихся 8-х классов в рамках Недели математ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– СОШ №3 г.Красный Ку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Учитель: Боровик Т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Декабрь 2011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Аукцион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да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Назвать пословицы и поговорки, в которых используются числитель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Назвать меры веса, длины, площади, объе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Какие бывают дроб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Какие знаете геометрические фигур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Привести названия книг, в которых упоминаются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обедитель: чей ответ послед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9"/>
          <p:cNvPicPr/>
          <p:nvPr/>
        </p:nvPicPr>
        <p:blipFill>
          <a:blip r:embed="rId1"/>
          <a:stretch/>
        </p:blipFill>
        <p:spPr>
          <a:xfrm>
            <a:off x="6248520" y="4648320"/>
            <a:ext cx="20476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Жюри подводит итог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SAM_4439"/>
          <p:cNvPicPr/>
          <p:nvPr/>
        </p:nvPicPr>
        <p:blipFill>
          <a:blip r:embed="rId1"/>
          <a:stretch/>
        </p:blipFill>
        <p:spPr>
          <a:xfrm>
            <a:off x="2438280" y="1219320"/>
            <a:ext cx="50673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ьхова З.Н., Макеева А.В. «Внеклассная работа по математи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манд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кулаева Дарь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темин Вла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итонова Ма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умский Ив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лимонов Андр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19720" y="11430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истанова Гал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одовников Дани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бдушев Тиму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кодских Татья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н Никол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SAM_4434"/>
          <p:cNvPicPr/>
          <p:nvPr/>
        </p:nvPicPr>
        <p:blipFill>
          <a:blip r:embed="rId1"/>
          <a:stretch/>
        </p:blipFill>
        <p:spPr>
          <a:xfrm>
            <a:off x="5029200" y="360036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SAM_4440"/>
          <p:cNvPicPr/>
          <p:nvPr/>
        </p:nvPicPr>
        <p:blipFill>
          <a:blip r:embed="rId2"/>
          <a:stretch/>
        </p:blipFill>
        <p:spPr>
          <a:xfrm>
            <a:off x="914400" y="36576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ур. Лотере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Команды должны разыграть лотерею: вытащить билет и ответить на вопрос в н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44837438"/>
          <p:cNvPicPr/>
          <p:nvPr/>
        </p:nvPicPr>
        <p:blipFill>
          <a:blip r:embed="rId1"/>
          <a:stretch/>
        </p:blipFill>
        <p:spPr>
          <a:xfrm>
            <a:off x="5105520" y="3276720"/>
            <a:ext cx="2492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опросы, предложенные команда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Как с помощью чисел 2 и 3 записать число, большее2, но меньшее3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Какой цифрой оканчивается произведение всех чисел от 7 до 81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Какие три числа, что их сложить, что перемножить дают один и тот же результат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Назвать два числа, сумма которых равна их произведен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Буханка хлеба весит полкило и полбуханки хлеба. Сколько весит целая буханк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В карманах денег поровну. Если из одного переложить в другой 3руб., на сколько рублей там станет больш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1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Ипподро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 заезд. Скачки с препятстви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Вычислить: 2+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-4:2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Восстановить стертые цифры: 5*683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06*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Какое наименьшее целое положительное число можно записать двумя цифрам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В семье шесть дочерей. Каждая имеет брата.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Бревно пилят на 10 частей. Сколько надо сделать распил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2762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251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Ипподро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 заез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спомнить и записать как можно больше слов, имеющих отношение к математике и начинающихся на букву «П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5105520" y="3809880"/>
            <a:ext cx="22096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1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Ипподро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 заезд. Скачки с выбывани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Двум участникам даются двухцветные сигнальные карто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Зачитываются слова, надо показать, это математический термин или н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еугольник, ишак, уравнение, дециметр, дифирамб, ромб, катет, аксиома, перманент, градус, синус, формуляр, биссектриса, угол, интрига, резус, апофема, площадь, перимет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099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Ипподро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 заезд. «Гипотенуз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Из букв данного слова составить как можно больше любых слов, причем математический термин считается за тр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тур. Ипподром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 заезд. «Угадай число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едущий показывает болельщикам записанное на карточке трехзначное число(играющие его не видят). Играющие должны отгадать это число, поочередно называя числа, а ведущий направляет их подсказк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32:39Z</dcterms:created>
  <dc:creator>Татьяна</dc:creator>
  <dc:description/>
  <dc:language>en-US</dc:language>
  <cp:lastModifiedBy>Affiliates</cp:lastModifiedBy>
  <dcterms:modified xsi:type="dcterms:W3CDTF">2011-12-26T12:43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