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2AC-3B40-476B-9882-9D1A4F3D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B91-C578-45A3-8C61-01D84398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C66-58DC-4D8E-8567-6126401E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F6D-558B-40CB-8FC8-CC116EA1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173B-D16A-43B0-B772-6F71504F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E814-E269-40C7-A8B8-7BA83DA0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40B4-A960-4BBB-9FB8-FE8EAA2D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54BE-20AD-4B0C-8504-F7E6D37D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1AE5-1128-4C78-99CF-0CA029A9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4705-3D69-448B-B00B-432E55ED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EB04-E9F5-4D3D-803D-F29062A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914-ADC3-4973-A244-3FE005E9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AC4D-9126-4B7C-B81C-5B8F5A46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E179-4C4D-484A-A95F-DFFAB06A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183E-12E2-49DF-975C-C28928CC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1FC8-0103-4A0F-87D5-3BF32BA9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0A7F-86F4-4B40-A10E-8E120845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C4D-8C5A-431C-B48A-F100813D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3FE-7EDB-4A86-81EB-C4E7F2EB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AB6-0DEB-4DA8-8484-8F2CB1E3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40A-16DA-4C3B-88C5-F7C37C07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9B8-D589-406D-A9FA-69CDC58A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A53-23A2-41E1-9A1C-F73F2C61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0B0-F550-4825-9A51-424C9789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B25E-6BDD-4F75-80A3-817FCB7E69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7C97-AE0C-4492-B0E2-03C486D5324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124080" y="121932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Воздушная одежда Земли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Кучево-дождевые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 — мощные и плотные облака с сильным вертикальным развитием  (до высоты 14 км), дающие обильные ливневые осадки с мощным градом и грозовыми явлениям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Picture 5" descr="culumonimbus"/>
          <p:cNvPicPr/>
          <p:nvPr/>
        </p:nvPicPr>
        <p:blipFill>
          <a:blip r:embed="rId1"/>
          <a:stretch/>
        </p:blipFill>
        <p:spPr>
          <a:xfrm>
            <a:off x="1752480" y="2971800"/>
            <a:ext cx="6400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ТМОСФЕРА-это воздух. Он состоит из смеси газов. Азот составляет 78%, 21%- кислород, а 1% составляют другие газ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1" name="Picture 5" descr="290px-Top_of_Atmosphere"/>
          <p:cNvPicPr/>
          <p:nvPr/>
        </p:nvPicPr>
        <p:blipFill>
          <a:blip r:embed="rId1"/>
          <a:stretch/>
        </p:blipFill>
        <p:spPr>
          <a:xfrm>
            <a:off x="1676520" y="2286000"/>
            <a:ext cx="663876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тер - это горизонтальное движение воздуха относительно поверхности Земли 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5" descr="i-210"/>
          <p:cNvPicPr/>
          <p:nvPr/>
        </p:nvPicPr>
        <p:blipFill>
          <a:blip r:embed="rId1"/>
          <a:stretch/>
        </p:blipFill>
        <p:spPr>
          <a:xfrm>
            <a:off x="2514600" y="1152360"/>
            <a:ext cx="40100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года- состояние нижнего слоя атмосферы  в данном месте и в данный момен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Picture 5" descr="12979311847496"/>
          <p:cNvPicPr/>
          <p:nvPr/>
        </p:nvPicPr>
        <p:blipFill>
          <a:blip r:embed="rId1"/>
          <a:stretch/>
        </p:blipFill>
        <p:spPr>
          <a:xfrm>
            <a:off x="-990720" y="29145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0867670_285132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внешнему виду различают </a:t>
            </a: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перистые, слоистые и кучевые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блака.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еристые облака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 — раздельные, тонкие, нитеобразные облака в виде белых тонких волокон или чуть сероватых вытянутых гряд и клочьев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icture 5" descr="Cirrus%20intortus_400x300"/>
          <p:cNvPicPr/>
          <p:nvPr/>
        </p:nvPicPr>
        <p:blipFill>
          <a:blip r:embed="rId1"/>
          <a:stretch/>
        </p:blipFill>
        <p:spPr>
          <a:xfrm>
            <a:off x="2819520" y="3276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Слоистые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облака образуют однородный слой, сходный с туманом, но расположенном на высоте в сотни или даже десятки метров. 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Picture 7" descr="350px-Bodennebel_beleuchtet"/>
          <p:cNvPicPr/>
          <p:nvPr/>
        </p:nvPicPr>
        <p:blipFill>
          <a:blip r:embed="rId1"/>
          <a:stretch/>
        </p:blipFill>
        <p:spPr>
          <a:xfrm>
            <a:off x="1523880" y="2590920"/>
            <a:ext cx="6858000" cy="380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Кучевые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облака — плотные, имеют вид куполов или башен с округлыми очертаниям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" name="Picture 4" descr="220px-Cumulus_mediocris"/>
          <p:cNvPicPr/>
          <p:nvPr/>
        </p:nvPicPr>
        <p:blipFill>
          <a:blip r:embed="rId1"/>
          <a:stretch/>
        </p:blipFill>
        <p:spPr>
          <a:xfrm>
            <a:off x="2133720" y="1523880"/>
            <a:ext cx="5486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блака также бывают </a:t>
            </a: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перисто-слоистые, слоисто-кучевые и кучево-дождевые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Перисто-слоистые облака- это парусоподобные облака верхнего яруса, состоящие из кристалликов льд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Picture 7" descr="clip_image001_1"/>
          <p:cNvPicPr/>
          <p:nvPr/>
        </p:nvPicPr>
        <p:blipFill>
          <a:blip r:embed="rId1"/>
          <a:stretch/>
        </p:blipFill>
        <p:spPr>
          <a:xfrm>
            <a:off x="2362320" y="2895480"/>
            <a:ext cx="54864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Перисто-кучевые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облака. Их часто называют «барашки». Очень высокие небольшие шаровидные облака, вытянутые в линии. 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7" descr="Cirrocumulus_400x300(1)"/>
          <p:cNvPicPr/>
          <p:nvPr/>
        </p:nvPicPr>
        <p:blipFill>
          <a:blip r:embed="rId1"/>
          <a:stretch/>
        </p:blipFill>
        <p:spPr>
          <a:xfrm>
            <a:off x="1905120" y="198108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Биологии</cp:lastModifiedBy>
  <dcterms:modified xsi:type="dcterms:W3CDTF">2011-12-22T08:53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