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CD0-0942-488A-9E64-7FDF104D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2C7-A53B-47A2-B4A2-2B9B296A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600-1161-4E52-8926-7A91A8D5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C07F-9864-4DD3-9B98-0BC5CA45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F725-49FE-4A98-BED0-2A60F2B1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3FDE-B933-41E1-A549-E6B4620B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AFE9-28D0-4721-BB49-64BA419F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7732-3F2C-4200-A14A-4DB5909E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1B70-6571-4D25-A82C-7D8B5786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F4A4-546B-48E1-A713-FF994601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641E-7E2F-4E32-88FE-16DD8A9B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F120-DD89-4C32-8275-0603B9BF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2377-55D4-4DAB-87BA-C9B3BEFB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268A-3584-48F3-B363-CCD18EC9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CD77-33C1-4C0B-8275-9396B858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3136-9DCF-4D19-A668-24D7D653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5EE2-B9AD-49E5-8CDB-E610E949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EDA6-2D66-47A9-838D-45A23972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16B9-5AF7-43C6-ACEF-FD63F3EE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8309-3E2E-4EE2-9E87-6D124F7D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F46-3683-435C-A4F6-97B819D8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B58F-6FB3-4BDD-9F1B-46CBBF4A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2199-DA94-4E78-BB07-4D0363C6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B9D2-4350-4312-874A-4EE37BC5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9047-2C54-4CF2-AF38-4D851099CC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1FAA-F81D-43B7-8462-B2393C385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rausen ist Bl</a:t>
            </a:r>
            <a:r>
              <a:rPr b="1" lang="de-DE" sz="5400" spc="-1" strike="noStrike">
                <a:solidFill>
                  <a:srgbClr val="feec94"/>
                </a:solidFill>
                <a:latin typeface="Times New Roman"/>
              </a:rPr>
              <a:t>ätterfall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ederhol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eec94"/>
                </a:solidFill>
                <a:latin typeface="Times New Roman"/>
              </a:rPr>
              <a:t>Mundgymnastik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U, u, u, - Bruder Schule, du,          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Kugelschreiber, Schuh,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Blume, rufen, zu,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gut, der Stuhl, das Buch, und ein Wort noch – Tu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eec94"/>
                </a:solidFill>
                <a:latin typeface="Times New Roman"/>
              </a:rPr>
              <a:t>Redegymnastik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Ist es Herbst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ie ist das Wetter heut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Ist das Wetter heute schlecht oder gut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Scheint die Sonn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ie ist der Himmel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Ist der Himmel blau oder gra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Herbst  + die Ernte = die Herbster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Herbst  + die Zeit =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Herbst  + das Wetter =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Herbst  + die Sonne =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Herbst  + der Wind =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Herbst  +  der Salat =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urnpaus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it dem Kopfe nick, nick, nick 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it dem Finger tick, tick, tick 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it den Händen klapp, klapp, klapp 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it den Füßen trapp, trapp, trapp. 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it dem Köpfe nick, nick, nick 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it dem Finger tick, tick, tick 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inmal hin, einmal her 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Rundherum ist nicht so schwer.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eec94"/>
                </a:solidFill>
                <a:latin typeface="Times New Roman"/>
              </a:rPr>
              <a:t>Bildet  Partizip 2: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tzen  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setzen 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liegen 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legen 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verstehen 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beginnen 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gefallen 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rfahren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1-12-26T19:40:2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