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AAE-FCE7-421B-BC27-382C27BA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473-FE4D-4A62-918B-B4CFCBDA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E826-3088-46F8-BBA7-504AAC56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625-03D2-4ABC-9E4D-5ECB0B3B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978E-6366-4D8C-A199-78F82B04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53E4-B3B7-484E-8568-A612C08F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CBAC-C303-4855-B330-A8D47F68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BA03-7432-45BE-AB0B-ACDF0655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FAB3-691F-4119-BD45-46C7A35E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E3D8-70D7-4B03-BBE7-0AACCDD8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6478-B12E-4972-9FD3-6F5C1661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FDF-5501-4756-8E00-7CB2DB27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6833-39E1-4B38-8DCC-65A99D85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6C37-A84D-4918-9A8E-11FCD6EC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8CF9-C26D-4CD1-8C51-AF5664B2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2DBD-B48B-4561-A51C-E24BC71C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8798-4A6C-434D-935D-5102DB5E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B78-8CB0-4CD8-AF70-7350A06C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DB5-33FB-4DB2-B97F-AE57D83C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C0D-CB2D-4562-B18B-79F58C09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48AA-CF8A-44A5-8939-7A281D25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D3E-3DA5-4E07-94BC-FE945178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F0C2-3F25-48BD-9ADD-70AA16D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E1E-A1EE-41C7-AB4F-013B15A5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FA2-A001-4727-9310-B8AB531201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2BEF-FB34-4F0E-B571-A8DFA51FA43E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672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ecff"/>
                </a:solidFill>
                <a:latin typeface="Arial"/>
              </a:rPr>
              <a:t>Строение семени растений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распротсранение плодов и семян 2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Arial"/>
              </a:rPr>
              <a:t>Цветковые растения – наиболее развитые и сложные по строению и размножению представители царства растений. Расселяются и размножаются они при помощи семян. Семя образуется из цветка растения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словия прорастания семян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личие вод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личие запаса питательных вещест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личие кислорода воздух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тимальные температурные услов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авильная посадка семени в грун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Этапы прорастания семян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строение семени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ипы прорастания семян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. Надземно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c000"/>
                </a:solidFill>
                <a:latin typeface="Arial"/>
              </a:rPr>
              <a:t>Растение вытаскивает из земли семядоли, и они превращаются в первые фотосинтезирующ-ие листья расте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76212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2. Подземно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c000"/>
                </a:solidFill>
                <a:latin typeface="Arial"/>
              </a:rPr>
              <a:t>Семя вместе с семядолями остается в земле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tretch/>
        </p:blipFill>
        <p:spPr>
          <a:xfrm>
            <a:off x="685800" y="3456000"/>
            <a:ext cx="80773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Organization Chart 5"/>
          <p:cNvGrpSpPr/>
          <p:nvPr/>
        </p:nvGrpSpPr>
        <p:grpSpPr>
          <a:xfrm>
            <a:off x="455760" y="380880"/>
            <a:ext cx="8225280" cy="6476040"/>
            <a:chOff x="455760" y="380880"/>
            <a:chExt cx="8225280" cy="6476040"/>
          </a:xfrm>
        </p:grpSpPr>
        <p:cxnSp>
          <p:nvCxnSpPr>
            <p:cNvPr id="224" name="_s1028"/>
            <p:cNvCxnSpPr>
              <a:stCxn id="225" idx="0"/>
              <a:endCxn id="226" idx="2"/>
            </p:cNvCxnSpPr>
            <p:nvPr/>
          </p:nvCxnSpPr>
          <p:spPr>
            <a:xfrm flipV="1">
              <a:off x="6782760" y="4428000"/>
              <a:ext cx="4680" cy="810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27" name="_s1029"/>
            <p:cNvCxnSpPr>
              <a:stCxn id="228" idx="0"/>
              <a:endCxn id="229" idx="2"/>
            </p:cNvCxnSpPr>
            <p:nvPr/>
          </p:nvCxnSpPr>
          <p:spPr>
            <a:xfrm flipV="1">
              <a:off x="2353320" y="4428000"/>
              <a:ext cx="4680" cy="81000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30" name="_s1030"/>
            <p:cNvCxnSpPr>
              <a:stCxn id="226" idx="0"/>
              <a:endCxn id="231" idx="2"/>
            </p:cNvCxnSpPr>
            <p:nvPr/>
          </p:nvCxnSpPr>
          <p:spPr>
            <a:xfrm flipV="1" rot="16200000">
              <a:off x="5271120" y="1296720"/>
              <a:ext cx="810000" cy="2214720"/>
            </a:xfrm>
            <a:prstGeom prst="bentConnector3">
              <a:avLst>
                <a:gd name="adj1" fmla="val 17385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32" name="_s1031"/>
            <p:cNvCxnSpPr>
              <a:stCxn id="229" idx="0"/>
              <a:endCxn id="231" idx="2"/>
            </p:cNvCxnSpPr>
            <p:nvPr/>
          </p:nvCxnSpPr>
          <p:spPr>
            <a:xfrm flipH="1" flipV="1" rot="5400000">
              <a:off x="3056040" y="1296360"/>
              <a:ext cx="810000" cy="2215800"/>
            </a:xfrm>
            <a:prstGeom prst="bentConnector3">
              <a:avLst>
                <a:gd name="adj1" fmla="val 17385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31" name="_s1032"/>
            <p:cNvSpPr/>
            <p:nvPr/>
          </p:nvSpPr>
          <p:spPr>
            <a:xfrm>
              <a:off x="2670840" y="380880"/>
              <a:ext cx="3796200" cy="161892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r>
                <a:rPr b="0" lang="en-US" sz="3300" spc="-1" strike="noStrike">
                  <a:solidFill>
                    <a:srgbClr val="eaeaea"/>
                  </a:solidFill>
                  <a:latin typeface="Arial"/>
                </a:rPr>
                <a:t>Плоды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9" name="_s1033"/>
            <p:cNvSpPr/>
            <p:nvPr/>
          </p:nvSpPr>
          <p:spPr>
            <a:xfrm>
              <a:off x="455760" y="2809440"/>
              <a:ext cx="3796200" cy="161892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Arial"/>
                </a:rPr>
                <a:t>Многосемянные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_s1034"/>
            <p:cNvSpPr/>
            <p:nvPr/>
          </p:nvSpPr>
          <p:spPr>
            <a:xfrm>
              <a:off x="4884840" y="2809440"/>
              <a:ext cx="3796200" cy="161892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Arial"/>
                </a:rPr>
                <a:t>Односемянные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_s1035"/>
            <p:cNvSpPr/>
            <p:nvPr/>
          </p:nvSpPr>
          <p:spPr>
            <a:xfrm>
              <a:off x="455760" y="5238000"/>
              <a:ext cx="3796200" cy="161892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Arial"/>
                </a:rPr>
                <a:t>Тыква, кабачок,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Arial"/>
                </a:rPr>
                <a:t>мак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5" name="_s1036"/>
            <p:cNvSpPr/>
            <p:nvPr/>
          </p:nvSpPr>
          <p:spPr>
            <a:xfrm>
              <a:off x="4884840" y="5238000"/>
              <a:ext cx="3796200" cy="161892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Arial"/>
                </a:rPr>
                <a:t>Вишня, абрикос, 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eaeaea"/>
                  </a:solidFill>
                  <a:latin typeface="Arial"/>
                </a:rPr>
                <a:t>слива</a:t>
              </a: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971800" y="27432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Arial"/>
              </a:rPr>
              <a:t>Односемянные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4" descr="5335"/>
          <p:cNvPicPr/>
          <p:nvPr/>
        </p:nvPicPr>
        <p:blipFill>
          <a:blip r:embed="rId1"/>
          <a:stretch/>
        </p:blipFill>
        <p:spPr>
          <a:xfrm>
            <a:off x="380880" y="152280"/>
            <a:ext cx="2448000" cy="308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грецкий орех"/>
          <p:cNvPicPr/>
          <p:nvPr/>
        </p:nvPicPr>
        <p:blipFill>
          <a:blip r:embed="rId2"/>
          <a:stretch/>
        </p:blipFill>
        <p:spPr>
          <a:xfrm>
            <a:off x="4724280" y="3505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 flipV="1">
            <a:off x="2971800" y="1905120"/>
            <a:ext cx="1752480" cy="8380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4267080" y="3276720"/>
            <a:ext cx="457200" cy="190476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819160" y="2895480"/>
            <a:ext cx="343044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ногосемянны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4" descr="arbuz"/>
          <p:cNvPicPr/>
          <p:nvPr/>
        </p:nvPicPr>
        <p:blipFill>
          <a:blip r:embed="rId1"/>
          <a:stretch/>
        </p:blipFill>
        <p:spPr>
          <a:xfrm>
            <a:off x="0" y="3657600"/>
            <a:ext cx="2514600" cy="3200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горохи"/>
          <p:cNvPicPr/>
          <p:nvPr/>
        </p:nvPicPr>
        <p:blipFill>
          <a:blip r:embed="rId2"/>
          <a:stretch/>
        </p:blipFill>
        <p:spPr>
          <a:xfrm>
            <a:off x="6781680" y="3352680"/>
            <a:ext cx="2362320" cy="3505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груша"/>
          <p:cNvPicPr/>
          <p:nvPr/>
        </p:nvPicPr>
        <p:blipFill>
          <a:blip r:embed="rId3"/>
          <a:stretch/>
        </p:blipFill>
        <p:spPr>
          <a:xfrm>
            <a:off x="228600" y="0"/>
            <a:ext cx="2227320" cy="3276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лимон"/>
          <p:cNvPicPr/>
          <p:nvPr/>
        </p:nvPicPr>
        <p:blipFill>
          <a:blip r:embed="rId4"/>
          <a:stretch/>
        </p:blipFill>
        <p:spPr>
          <a:xfrm>
            <a:off x="6953400" y="0"/>
            <a:ext cx="2190600" cy="3048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Ммалина"/>
          <p:cNvPicPr/>
          <p:nvPr/>
        </p:nvPicPr>
        <p:blipFill>
          <a:blip r:embed="rId5"/>
          <a:stretch/>
        </p:blipFill>
        <p:spPr>
          <a:xfrm>
            <a:off x="2743200" y="228600"/>
            <a:ext cx="3333600" cy="2095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огурец"/>
          <p:cNvPicPr/>
          <p:nvPr/>
        </p:nvPicPr>
        <p:blipFill>
          <a:blip r:embed="rId6"/>
          <a:stretch/>
        </p:blipFill>
        <p:spPr>
          <a:xfrm>
            <a:off x="2819520" y="380988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Биологии</cp:lastModifiedBy>
  <dcterms:modified xsi:type="dcterms:W3CDTF">2011-12-22T08:45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