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b75b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7578-07F2-4678-AC55-ABEDCFF781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A780-1BE2-439C-A613-651B9C60F1F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87A2-391B-4154-A18A-1D11A4F9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1210-4965-4891-8F7C-B524B452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73E9-495F-44F6-93AB-87D0C4ED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7442-2833-43F8-B8E6-C7FD1E27C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1D17-9D46-4EBA-A3DE-62E66DC64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81E9-93B6-4740-AFA9-683C1FB6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CBA8-A446-490C-879A-2ABB3BC3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407A-3760-4B34-8E9C-669D8DE7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5F71-9968-4DB9-B1B6-5EED370F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B410-3F47-4749-ABA4-38AF43D8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539D-61DB-473D-BDFF-EE00526C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5712-EE5E-4DBE-A26C-F57ACD41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D67C-123A-4811-85D8-1AF7101A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81E3-35E5-47B1-A6B1-8966B325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E279-44FE-48B4-B974-E3B07669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65A6-F4B0-4093-92EF-EA84962C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D8F7-C1F0-4F3A-82CB-6212FB0DD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57CD9-09F1-42CA-812D-8FCF1A149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23DB3-1924-4B1C-8BF5-CBE58E3C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548F0-A1FD-4F32-ACFD-58F5DC9B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A8356-7D8A-4665-A2A7-9E1F9902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A9997-BF23-4784-82A1-2A458FBB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2768-388F-4F63-97F5-F4E5761E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63903-9693-42BA-9586-6640AF95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DBE69-4114-44ED-8878-D8F2606D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3A64D-5416-4295-9394-7A7CFDC8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62B1D-8CEC-4249-94F4-732AB187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6162D-B454-4625-9972-B3C44D6B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1EBBB-7BBD-45B6-B3D5-D934EC076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BF96F-C97F-4586-A520-932037A6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A1322-6457-4DDB-96F4-AFD8DE2D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CFBD3-C6C6-48F7-9D22-D210FA14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4E753-45FF-4508-ACC3-8190497E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5751-473E-4325-A2E3-9588BD0D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58910-7615-4B0A-ADF8-D00D70C6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B3CB6-EB9F-4EF6-AF9B-944FC3F8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86C48-52C5-4543-A571-F7501CBE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FA507-D2DF-49A7-94DA-773B9A8E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2E6DC-BAAC-4221-888D-37A7B4AD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64E15-A2BC-4928-B074-5F88C09D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09515-3452-4525-A141-9F1A85E2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4523E-EEBC-4C39-94EA-07711313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8F8D4-ED88-479A-BCA5-1FF1C43D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004C8-46C8-4001-910F-10104315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2229-8ED0-4BAF-90D7-41B315EF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B62D0-D06C-4B34-99C9-DD2FC198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9FAE7-16FD-4222-91ED-4F4CF30B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ECE81-29E1-4B9F-BC09-A7AFC7CA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99EDB-C7F0-4667-A51E-B2AA9D0E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1766F-33E7-47F9-920E-CBEB4490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900B2-AFBC-48D1-A24B-8496F12F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99B6D-D4D7-4839-9DD1-86A4E69D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450B6-A4A8-4477-A848-4BB0C7E7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A6E87-7680-4D3F-9EEE-14DD4A5C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A7E61-F893-4435-9CAA-FF89068C1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46ED-2416-4B46-8FB8-67857F97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2B73A-F424-48B0-B192-9F94C76F1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F2CEE-26FD-4245-8959-9B0D041DE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9FD35-E90D-4543-9B4A-E2E104E6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07343-C68D-4B54-9517-B71AB625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95371-F391-4F36-95EE-C8148F74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7D129-690D-40EB-A502-2D4867AC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13101-44E9-41E7-BC63-36C35BA8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5448C-B9ED-4DDD-8B3A-3D77125C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A482C-DB06-48D0-A8C2-E95E1ACF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64253-D5BC-4F9C-BB20-953C01CD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EF05-76B9-4244-A813-0A91EDB2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A0A6F-42C8-4B5F-AD7B-E1094DBE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191A5-48BC-452C-B04D-CAD27CDD4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19355-D4A7-47B8-BA8F-3F3C0546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6FC43-7CCA-4C90-9305-1E5AB2E58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9C4F2-E817-4979-A033-BAC3FE40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18AA1-BBE3-44F2-85E4-7C6E9AFE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22497-BEB8-4D3D-9FB9-3E6C714A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CBF5F-3A91-4A99-9515-C4DB08EB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E2D42-8001-447B-A513-3F417E93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B7F46-D850-4899-9364-FA115D41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F19E-E8D0-451D-9470-EDE2CEDD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8C888-DF39-4A48-B2B3-F78BCEC7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CADDF-4362-499D-A59D-EB72EC65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70A2A-8DFF-4FC9-882B-024A5617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FF82F-3DBE-4332-BE71-A6E28723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B563D-F9CF-42C4-9BFA-0B9A014F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837F-EFA5-42A0-8734-157B394F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beec9">
                  <a:alpha val="1176"/>
                </a:srgbClr>
              </a:gs>
              <a:gs pos="100000">
                <a:srgbClr val="fbe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cb6b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4be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b75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bf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482D-98EE-40DB-9E3C-B98FA7B35BA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beec9">
                  <a:alpha val="1176"/>
                </a:srgbClr>
              </a:gs>
              <a:gs pos="100000">
                <a:srgbClr val="fbe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cb6b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4be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ac6300"/>
              </a:gs>
              <a:gs pos="100000">
                <a:srgbClr val="ffc16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b75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bf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F624-586D-40C5-A533-88CC245CAE17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beec9">
                  <a:alpha val="1176"/>
                </a:srgbClr>
              </a:gs>
              <a:gs pos="100000">
                <a:srgbClr val="fbe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cb6b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4be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b75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bf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CCC3-5FE8-44E7-A805-0D723E5928EF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beec9">
                  <a:alpha val="1176"/>
                </a:srgbClr>
              </a:gs>
              <a:gs pos="100000">
                <a:srgbClr val="fbe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ac6300"/>
              </a:gs>
              <a:gs pos="100000">
                <a:srgbClr val="ffc16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4be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cb6b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b75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bf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45D8-00F6-4EBF-B7D2-C86C69339D9B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b75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bf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4215-50E6-4530-BE2C-9BE8DB481670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b75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bf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CD63-C2BA-42F8-A7D1-509A2162012A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b75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bf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EAA5-896E-49F6-A502-4E2F442E1A44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615960" y="835200"/>
            <a:ext cx="783288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Заголовок 1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8328240" cy="1461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31739"/>
          <p:cNvPicPr/>
          <p:nvPr/>
        </p:nvPicPr>
        <p:blipFill>
          <a:blip r:embed="rId2"/>
          <a:stretch/>
        </p:blipFill>
        <p:spPr>
          <a:xfrm>
            <a:off x="1500120" y="2071800"/>
            <a:ext cx="3000600" cy="45003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11" name="Picture 5" descr=""/>
          <p:cNvPicPr/>
          <p:nvPr/>
        </p:nvPicPr>
        <p:blipFill>
          <a:blip r:embed="rId3"/>
          <a:stretch/>
        </p:blipFill>
        <p:spPr>
          <a:xfrm>
            <a:off x="5072040" y="2000160"/>
            <a:ext cx="2898720" cy="44290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4e3b3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5" descr="C:\Users\1\Desktop\фото-права\сем.код.jpg"/>
          <p:cNvPicPr/>
          <p:nvPr/>
        </p:nvPicPr>
        <p:blipFill>
          <a:blip r:embed="rId1"/>
          <a:stretch/>
        </p:blipFill>
        <p:spPr>
          <a:xfrm rot="20899800">
            <a:off x="428760" y="2711520"/>
            <a:ext cx="2754000" cy="34574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" descr="C:\Users\1\Desktop\фото-права\1277087560_321191_l.jpg"/>
          <p:cNvPicPr/>
          <p:nvPr/>
        </p:nvPicPr>
        <p:blipFill>
          <a:blip r:embed="rId2"/>
          <a:stretch/>
        </p:blipFill>
        <p:spPr>
          <a:xfrm>
            <a:off x="755640" y="1052640"/>
            <a:ext cx="2808360" cy="38574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0" descr=""/>
          <p:cNvPicPr/>
          <p:nvPr/>
        </p:nvPicPr>
        <p:blipFill>
          <a:blip r:embed="rId3"/>
          <a:stretch/>
        </p:blipFill>
        <p:spPr>
          <a:xfrm>
            <a:off x="3851280" y="549360"/>
            <a:ext cx="5124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08000" y="692280"/>
            <a:ext cx="59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0840" indent="-35964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Закон «Об образовании»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Федеральный закон № 120 «Об основах системы профилактики, безнадзорности и правонарушений несовершеннолетних»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Федеральный закон № 124 «Об основных гарантиях прав ребенка в РФ»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6" name="Picture 7" descr="фз №120"/>
          <p:cNvPicPr/>
          <p:nvPr/>
        </p:nvPicPr>
        <p:blipFill>
          <a:blip r:embed="rId1"/>
          <a:stretch/>
        </p:blipFill>
        <p:spPr>
          <a:xfrm>
            <a:off x="6300720" y="1484280"/>
            <a:ext cx="27352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10920" y="692280"/>
            <a:ext cx="8086680" cy="57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Закон Саратовской области «О мерах по защите нравственности детей в Саратовской области»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Закон Саратовской области «Об административных нарушениях в Саратовской области»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8" name="Picture 4" descr=""/>
          <p:cNvPicPr/>
          <p:nvPr/>
        </p:nvPicPr>
        <p:blipFill>
          <a:blip r:embed="rId1"/>
          <a:stretch/>
        </p:blipFill>
        <p:spPr>
          <a:xfrm>
            <a:off x="2916360" y="3860640"/>
            <a:ext cx="3384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469800" y="262080"/>
            <a:ext cx="8240760" cy="14079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«Положение о Совете по профилактике асоциального поведения подростков»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«Положение о правилах постановки учащихся на ВШК»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«Положение о правилах постановки семей на ВШК, находящихся в социально-опасном положении»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Списки детей и семей, стоящих на различных видах учет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План работы социального педагога и психолог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План работы Совета по профилактике асоциального поведения учащихся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Коррекционный план работы с трудными детьм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455320" cy="1547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714320"/>
            <a:ext cx="82296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entury Gothic"/>
              </a:rPr>
              <a:t>Карта учета на ученика или семью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Выписка из протокола о постановке на учет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Социально-педагогическая характеристика на ученика и семью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Акт обследования ЖБУ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Индивидуальный план профилактической работы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Табель успеваемости и посещаемости учебных занятий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Занятость во внеурочное время и на каникулах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Рекомендации психолога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Результаты работы (за каждую учебную четверть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Выписка о снятии с учета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2:38:38Z</dcterms:created>
  <dc:creator>НиколаеваТА</dc:creator>
  <dc:description/>
  <dc:language>en-US</dc:language>
  <cp:lastModifiedBy>Директор</cp:lastModifiedBy>
  <dcterms:modified xsi:type="dcterms:W3CDTF">2011-12-16T04:37:17Z</dcterms:modified>
  <cp:revision>9</cp:revision>
  <dc:subject/>
  <dc:title>«Формы и методы работы с «трудными»  подростками по формированию потребности в здоровом образе жизни. Взаимодействие ДДТ и образовательных учреждений района в занятости детей,        стоящих на учете в КДН и ЗП»</dc:title>
</cp:coreProperties>
</file>