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jpeg" ContentType="image/jpeg"/>
  <Override PartName="/ppt/media/image24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ACF-ED3B-4FB0-A8F3-FDEF1C60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755-D3CF-443C-817C-8173FBFE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9C0-C3BC-4B41-91EF-6B31A1F4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9F7-3040-4E06-B953-48AC13A5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90F-37B5-4B96-AE1A-E52E5F40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FFB-FD8B-4AAC-9ED2-78D6A899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0DD-260F-41D2-A86C-061253BD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147-80B8-464E-98A7-7B624504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25A-D361-4FF0-8CDE-ADCD5E65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A94-E977-4970-A4B7-8596707B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DCC-CA5D-4511-8C23-E185DE43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C69-BEAD-4370-80D0-6991C5A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7427-61D4-40EF-9901-3950536E0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6480" y="128520"/>
            <a:ext cx="9156960" cy="882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00039739"/>
          <p:cNvPicPr/>
          <p:nvPr/>
        </p:nvPicPr>
        <p:blipFill>
          <a:blip r:embed="rId2"/>
          <a:stretch/>
        </p:blipFill>
        <p:spPr>
          <a:xfrm>
            <a:off x="152280" y="990720"/>
            <a:ext cx="2440080" cy="30477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43" name="Picture 12" descr="00043151"/>
          <p:cNvPicPr/>
          <p:nvPr/>
        </p:nvPicPr>
        <p:blipFill>
          <a:blip r:embed="rId3"/>
          <a:stretch/>
        </p:blipFill>
        <p:spPr>
          <a:xfrm>
            <a:off x="3124080" y="1371600"/>
            <a:ext cx="1947960" cy="257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4" name="Picture 5" descr="'Rundkirche' in Seiffen"/>
          <p:cNvPicPr/>
          <p:nvPr/>
        </p:nvPicPr>
        <p:blipFill>
          <a:blip r:embed="rId4"/>
          <a:stretch/>
        </p:blipFill>
        <p:spPr>
          <a:xfrm>
            <a:off x="5486400" y="1066680"/>
            <a:ext cx="3430440" cy="558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Picture 4" descr="Kurhaus"/>
          <p:cNvPicPr/>
          <p:nvPr/>
        </p:nvPicPr>
        <p:blipFill>
          <a:blip r:embed="rId5"/>
          <a:stretch/>
        </p:blipFill>
        <p:spPr>
          <a:xfrm>
            <a:off x="1828800" y="4191120"/>
            <a:ext cx="3476520" cy="242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321760" cy="143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00041054"/>
          <p:cNvPicPr/>
          <p:nvPr/>
        </p:nvPicPr>
        <p:blipFill>
          <a:blip r:embed="rId2"/>
          <a:stretch/>
        </p:blipFill>
        <p:spPr>
          <a:xfrm>
            <a:off x="457200" y="1219320"/>
            <a:ext cx="323856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1" name="Picture 6" descr="00038101"/>
          <p:cNvPicPr/>
          <p:nvPr/>
        </p:nvPicPr>
        <p:blipFill>
          <a:blip r:embed="rId3"/>
          <a:stretch/>
        </p:blipFill>
        <p:spPr>
          <a:xfrm>
            <a:off x="533520" y="4114800"/>
            <a:ext cx="3363840" cy="236232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82" name="Picture 7" descr="00038326"/>
          <p:cNvPicPr/>
          <p:nvPr/>
        </p:nvPicPr>
        <p:blipFill>
          <a:blip r:embed="rId4"/>
          <a:stretch/>
        </p:blipFill>
        <p:spPr>
          <a:xfrm>
            <a:off x="2971800" y="2819520"/>
            <a:ext cx="1830240" cy="187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3" name="Прямоугольник 5"/>
          <p:cNvSpPr/>
          <p:nvPr/>
        </p:nvSpPr>
        <p:spPr>
          <a:xfrm>
            <a:off x="5181480" y="1752480"/>
            <a:ext cx="3657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ist 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ist w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ist bew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Der Himmel ist g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r... o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ist U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gibt Gew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Book Antiqua"/>
              </a:rPr>
              <a:t>Zu welchem Feiertag ist die Stadt märchenhaft schö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Book Antiqua"/>
              </a:rPr>
              <a:t>In welchem Monat feiern die Deutschen Karneva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Book Antiqua"/>
              </a:rPr>
              <a:t>Zu welchem Feiertag bemalen die Kinder Ei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6360" y="255600"/>
            <a:ext cx="9114120" cy="22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Adventskranz"/>
          <p:cNvPicPr/>
          <p:nvPr/>
        </p:nvPicPr>
        <p:blipFill>
          <a:blip r:embed="rId2"/>
          <a:stretch/>
        </p:blipFill>
        <p:spPr>
          <a:xfrm>
            <a:off x="3200400" y="3429000"/>
            <a:ext cx="2362320" cy="275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Picture 44" descr="Aussendung der Heiligen drei Könige (Bild: Gemeinde Fuchshofen)"/>
          <p:cNvPicPr/>
          <p:nvPr/>
        </p:nvPicPr>
        <p:blipFill>
          <a:blip r:embed="rId3"/>
          <a:stretch/>
        </p:blipFill>
        <p:spPr>
          <a:xfrm>
            <a:off x="5791320" y="4343400"/>
            <a:ext cx="3206520" cy="2324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77" descr="DSC02750"/>
          <p:cNvPicPr/>
          <p:nvPr/>
        </p:nvPicPr>
        <p:blipFill>
          <a:blip r:embed="rId4"/>
          <a:stretch/>
        </p:blipFill>
        <p:spPr>
          <a:xfrm>
            <a:off x="152280" y="2438280"/>
            <a:ext cx="2851200" cy="213840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7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au – au –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Haus – grau – ta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eu – eu – 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heute – Hä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ch – ch – 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ich – sonnig – wind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ei – ei – 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weiß – heiter - sche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30 Tage hat Septemb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April, Juni und Nov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Februar hat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Nur im Schaltjahr 2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Alle andere ohne F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Haben 31 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Book Antiqua"/>
              </a:rPr>
              <a:t>RBET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Book Antiqua"/>
              </a:rPr>
              <a:t>ETTEWR </a:t>
            </a: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Book Antiqua"/>
              </a:rPr>
              <a:t>NNESO</a:t>
            </a: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Book Antiqua"/>
              </a:rPr>
              <a:t>F LNGÜH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Book Antiqua"/>
              </a:rPr>
              <a:t>NIW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4952880" y="1622520"/>
            <a:ext cx="320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41008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HERB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1008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1008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O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1008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RÜH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1008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10082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Die Sonne                         we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Der Himmel                       ta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Der Wind                           sche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Es                                      ist n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Die Blätter                         ist gr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Der Schnee                       ist k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Alles                                   fall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2819520" y="1905120"/>
            <a:ext cx="220968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124080" y="2514600"/>
            <a:ext cx="182880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2743200" y="1905120"/>
            <a:ext cx="21337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523880" y="3429000"/>
            <a:ext cx="335304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2819520" y="3962520"/>
            <a:ext cx="21333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2895480" y="2514240"/>
            <a:ext cx="2210040" cy="19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2057400" y="3504960"/>
            <a:ext cx="274320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00039437"/>
          <p:cNvPicPr/>
          <p:nvPr/>
        </p:nvPicPr>
        <p:blipFill>
          <a:blip r:embed="rId1"/>
          <a:stretch/>
        </p:blipFill>
        <p:spPr>
          <a:xfrm>
            <a:off x="457200" y="1143000"/>
            <a:ext cx="3362400" cy="244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4" descr="00039617"/>
          <p:cNvPicPr/>
          <p:nvPr/>
        </p:nvPicPr>
        <p:blipFill>
          <a:blip r:embed="rId2"/>
          <a:stretch/>
        </p:blipFill>
        <p:spPr>
          <a:xfrm>
            <a:off x="1523880" y="3983040"/>
            <a:ext cx="3562560" cy="266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Заголовок 1" descr=""/>
          <p:cNvPicPr/>
          <p:nvPr/>
        </p:nvPicPr>
        <p:blipFill>
          <a:blip r:embed="rId3"/>
          <a:stretch/>
        </p:blipFill>
        <p:spPr>
          <a:xfrm>
            <a:off x="225360" y="30240"/>
            <a:ext cx="8699400" cy="1317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62720" y="1219320"/>
            <a:ext cx="320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2060"/>
                </a:solidFill>
                <a:latin typeface="Book Antiqua"/>
              </a:rPr>
              <a:t>Die Stadt ist in allen Jahreszeiten sehr sch</a:t>
            </a:r>
            <a:r>
              <a:rPr b="0" lang="de-DE" sz="2600" spc="-1" strike="noStrike">
                <a:solidFill>
                  <a:srgbClr val="002060"/>
                </a:solidFill>
                <a:latin typeface="Book Antiqua"/>
                <a:ea typeface="Arial"/>
              </a:rPr>
              <a:t>ö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2060"/>
                </a:solidFill>
                <a:latin typeface="Book Antiqua"/>
                <a:ea typeface="Arial"/>
              </a:rPr>
              <a:t>Im Winter ist es k…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2060"/>
                </a:solidFill>
                <a:latin typeface="Book Antiqua"/>
                <a:ea typeface="Arial"/>
              </a:rPr>
              <a:t>Es sch…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2060"/>
                </a:solidFill>
                <a:latin typeface="Book Antiqua"/>
                <a:ea typeface="Arial"/>
              </a:rPr>
              <a:t>Die Schneeflocken fallen auf die 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2060"/>
                </a:solidFill>
                <a:latin typeface="Book Antiqua"/>
                <a:ea typeface="Arial"/>
              </a:rPr>
              <a:t>Alles ist w…: die Parks, die Häuser, die Höfe, die Str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00039113"/>
          <p:cNvPicPr/>
          <p:nvPr/>
        </p:nvPicPr>
        <p:blipFill>
          <a:blip r:embed="rId4"/>
          <a:stretch/>
        </p:blipFill>
        <p:spPr>
          <a:xfrm>
            <a:off x="304920" y="2666880"/>
            <a:ext cx="2666880" cy="213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407880" y="103320"/>
            <a:ext cx="8560080" cy="143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москва 003"/>
          <p:cNvPicPr/>
          <p:nvPr/>
        </p:nvPicPr>
        <p:blipFill>
          <a:blip r:embed="rId2"/>
          <a:stretch/>
        </p:blipFill>
        <p:spPr>
          <a:xfrm>
            <a:off x="609480" y="1523880"/>
            <a:ext cx="3200400" cy="239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Picture 8" descr="рекина 034"/>
          <p:cNvPicPr/>
          <p:nvPr/>
        </p:nvPicPr>
        <p:blipFill>
          <a:blip r:embed="rId3"/>
          <a:stretch/>
        </p:blipFill>
        <p:spPr>
          <a:xfrm>
            <a:off x="533520" y="4114800"/>
            <a:ext cx="3381120" cy="253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Picture 61" descr="Ostereier"/>
          <p:cNvPicPr/>
          <p:nvPr/>
        </p:nvPicPr>
        <p:blipFill>
          <a:blip r:embed="rId4"/>
          <a:stretch/>
        </p:blipFill>
        <p:spPr>
          <a:xfrm>
            <a:off x="2743200" y="2362320"/>
            <a:ext cx="2362320" cy="260028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sp>
        <p:nvSpPr>
          <p:cNvPr id="71" name="Прямоугольник 5"/>
          <p:cNvSpPr/>
          <p:nvPr/>
        </p:nvSpPr>
        <p:spPr>
          <a:xfrm>
            <a:off x="5334120" y="1905120"/>
            <a:ext cx="35812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ist Früh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ist nicht mehr s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ist w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Die Sonne scheint 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Der Himmel ist 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Der Schnee t…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1, 2, 3, 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Alle, alle turnen w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Mit den Händen klapp klapp kla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Mit den Füßen trapp trapp tra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Mit den Köpfchen nick-nick-ni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Mit den Fingern tipp tipp ti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Einmal hin, einmal h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Book Antiqua"/>
              </a:rPr>
              <a:t>Rundherum, das ist nicht sch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Средневековая ратуша в Бремене"/>
          <p:cNvPicPr/>
          <p:nvPr/>
        </p:nvPicPr>
        <p:blipFill>
          <a:blip r:embed="rId1"/>
          <a:stretch/>
        </p:blipFill>
        <p:spPr>
          <a:xfrm>
            <a:off x="1295280" y="4343400"/>
            <a:ext cx="3353040" cy="224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5" name="Заголовок 1" descr=""/>
          <p:cNvPicPr/>
          <p:nvPr/>
        </p:nvPicPr>
        <p:blipFill>
          <a:blip r:embed="rId2"/>
          <a:stretch/>
        </p:blipFill>
        <p:spPr>
          <a:xfrm>
            <a:off x="66600" y="-6480"/>
            <a:ext cx="9156600" cy="10130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257440" y="144792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Book Antiqua"/>
              </a:rPr>
              <a:t>Es ist 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Book Antiqua"/>
              </a:rPr>
              <a:t>Die Sonne scheint h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Book Antiqua"/>
              </a:rPr>
              <a:t>Es ist s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Book Antiqua"/>
              </a:rPr>
              <a:t>Es ist he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Book Antiqua"/>
              </a:rPr>
              <a:t>Das Wetter ist sch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Book Antiqua"/>
              </a:rPr>
              <a:t>Alles blüht und gr…nt</a:t>
            </a:r>
            <a:r>
              <a:rPr b="0" lang="en-US" sz="2800" spc="-1" strike="noStrike">
                <a:solidFill>
                  <a:srgbClr val="00206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поход 2007 007"/>
          <p:cNvPicPr/>
          <p:nvPr/>
        </p:nvPicPr>
        <p:blipFill>
          <a:blip r:embed="rId3"/>
          <a:stretch/>
        </p:blipFill>
        <p:spPr>
          <a:xfrm>
            <a:off x="304920" y="914400"/>
            <a:ext cx="3144600" cy="2362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8" name="Picture 14" descr="00019082"/>
          <p:cNvPicPr/>
          <p:nvPr/>
        </p:nvPicPr>
        <p:blipFill>
          <a:blip r:embed="rId4"/>
          <a:stretch/>
        </p:blipFill>
        <p:spPr>
          <a:xfrm>
            <a:off x="2362320" y="2819520"/>
            <a:ext cx="1873080" cy="187308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№ 5</cp:lastModifiedBy>
  <dcterms:modified xsi:type="dcterms:W3CDTF">2011-03-23T07:29:3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